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_x000b_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(zu viel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49072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0800" y="5493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prote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549360"/>
            <a:ext cx="49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rote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relativ 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07280" y="549360"/>
            <a:ext cx="46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prote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 (zu viel Prote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3"/>
            <a:endCxn id="1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Globulin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1920" y="54936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prote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 (zu viel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Bildung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21" idx="3"/>
            <a:endCxn id="1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obulin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amm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1880" y="549360"/>
            <a:ext cx="74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prote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 (zu viel Protein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Bildung ↑ &gt; Globuline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amm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0520" y="549360"/>
            <a:ext cx="79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protein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viel Protein) &gt; Bildung ↑ &gt; Globuline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gamma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 persist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oonose, FIP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ultiples Myelom/Plasmozyt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153480"/>
            <a:ext cx="30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35:02Z</dcterms:modified>
  <cp:revision>331</cp:revision>
  <dc:subject/>
  <dc:title>Vorstellung einer Neuheit</dc:title>
</cp:coreProperties>
</file>